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6D9-7C2E-4785-A347-74BA0ABE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7C0D-D92A-40EF-9A83-CFFC88BE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1A981-4594-42F5-9586-33C11780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116AB-377D-4EA3-B820-6E686D1F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5D1D6-C20F-4927-A96C-841A1B05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94461-79F7-410C-950C-D9E5AA65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209DA-3F63-4923-AE51-356C49B8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6D554-94C8-4B51-9B3A-BC094EF0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B01C5-403F-4AD9-B851-0314C969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BA620-396D-43B4-9E05-27288693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17B5E-2E59-46E1-A67D-F80A004A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12C98-850E-417B-9B53-939DFD23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7D6-3DFC-4DBA-873A-E058DC75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07E7B-EA86-49FD-973A-232E30BF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EACE8-F579-49CE-82B1-3707755D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9F632-D178-47ED-A8A1-BB8047DA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0B5D7-EDBA-446F-97B2-8E5B42B0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8301A-0388-4798-AB34-D6D35679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A98CF-A955-4902-B292-2C9F3992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34A84-F9AC-41BC-B16D-EA0C83FA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01C3F-54E4-4D03-8BE0-FDDCA2FE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A1CDB-AAA4-430B-9621-9662BAFC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C40F4-E0DC-4840-8419-FA978E3A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B669-CD95-4E22-A950-3C53C45B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16797-044C-49EC-B390-0A7C489B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37E73-6F64-4C10-845D-6AC0F8EB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54853-7438-4ADF-B796-19E8A9FD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DE1AF-0F8F-4A5C-AA2D-9EFBE799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7AB4D-967C-4BCE-A1A6-FECD19B3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BE4FE-301D-4F65-BAC0-CA452D28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1A5A0-9484-49B6-896F-9C2075E0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E731D-6F8C-4B29-A269-176E8DAA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BC3C9-4259-42D4-8017-B2D11F05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24CC8-E77F-40EE-AA45-143A0D05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D511-F4BE-4FBD-87ED-0FCCF11B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9C5A4-B268-4F0F-9FAB-36436FC6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FD913-DD0C-4488-8617-32BFA0D2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44F8A-3464-4C76-A9AD-C3C083D8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40710-3F1B-46B6-872F-4803F875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6A4A8-2D8A-4582-A945-FBF0C538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F5D59-69F5-469D-83A0-6C56DF6C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9BDDE-E98E-4780-BD71-F0985D67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70A77-7C37-43A2-A21C-5AD82192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0FCCE-D96F-4926-A2C6-1E0E6553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756FD-6520-4A0F-B116-13500B85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A201-F086-4E80-992F-83E1BAF3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8FF3F-31F5-4DF3-9E93-C2B06B13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42B35-2909-4F62-ADF3-F7441FCB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642BD-2894-45F5-9A19-81B32BB4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03693-C3D0-489D-8F3F-B61B8D73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E1B7A-EE39-46CD-88EC-15804F8D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1DD2F-AF62-4852-9D9B-A8AB7AF6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BC267-8DB4-40F0-BE4B-892DF865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3DD3F-6A18-4E65-93D6-355B820F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3A85A-5DEB-450C-B724-FCE12D8D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10934-69F8-4FED-A811-43A5F289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AC0F-2E31-45BD-A54A-83C80443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025F8-79EC-419C-B215-B57227B2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67287D-BE9F-48DE-9683-4BCC3E63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271D6-1A26-4FAC-8831-E2B066B4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5B1697-C0D4-404E-97B8-D0FCC3C7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F5861-2F9F-459C-AD24-5A578D76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FE9BA-8415-4DC5-9DAB-B7D118A3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E43538-EB00-48FA-8855-6F4DE9B1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FB1448-C66B-4868-9355-90C8CBC6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9A4A83-36C2-4A43-8D49-0EC48978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24B85-A13B-46A2-8022-F12A4786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3B19-68EB-4093-810B-1550CF7D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692C0C-D4E3-449E-ADC8-9B219B36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11F237-5655-4575-B54D-19D9B794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2FB597-AD89-4FE1-8EE0-F40BCDAA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1ECAD4-54C3-4E6F-A7C5-C443BD3E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7FBA4D-405C-4206-A61E-5009F3EB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677A3F-22BF-4A59-ACF0-30D9C126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FD6D73-3792-4E60-BDC8-0A8FA87D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BF44FC-BE13-4919-9AA8-708A6212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CE7C4-1F02-46CD-8274-E0E3219B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814C5C-DF7D-434B-8C97-8842AB7C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A1DA-EEE0-44B2-BEC7-3C09B3E2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47909F-98FB-4F42-AC19-DADDA539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67B9C2-C2C0-418A-A2E4-45C5626D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95806-E5B0-4281-B452-B9330969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70542C-1FD9-4184-AA0C-3FC093AA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B043FF-AC18-42CC-8F2E-89E32C15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AC4958-1684-498C-A5B7-4361A9D4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9E44B5-4B4E-4AE4-9D6B-1B8AD8C6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33B161-503B-40C7-A5C6-1E6BE761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F1480-F2CA-4BB1-B1D3-E392C9BF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C2E766-29AF-4AEA-BF27-348F9950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BCA8-8855-4832-9F84-356E4287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4D1001-CA97-403E-B717-ACE66DAB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2ABB63-7F41-4F0D-9137-A21A4339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A79F25-0319-41F3-A775-13EC5BBB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997E41-A514-47D7-A6E5-09662124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85AEAC-4D37-4E62-947F-D1978B35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B5AF04-912C-4CFE-ADCA-44367C8D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8944A2-4FF2-4836-AD1C-5EB53793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456857-86A4-42A2-B533-87C92A8F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8E63F3-54B2-44BB-BF84-0096AD8F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3537F4-6C14-49A1-BC57-0D1BDEC6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3016-7A29-4DDF-841D-AA0244CF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4BE6FE-6F68-476B-A0A2-62D57718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943C20-90A6-45F7-963D-AE909D31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551CA7-20D7-455F-BA55-FE6AFADD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7A46E0-94D8-4680-90A8-4617088F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9FC59E-5E7D-4E5A-8767-559B08DC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3499D9-9D07-4B33-8337-44EDECE2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DCA442-292E-413A-B410-257B2625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07167E-1DB7-4B9F-8F94-550535E0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C8F840-3FC2-4D8D-987A-78D9E442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C59D0A-E257-470A-8C83-BA9E1E7E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B8FB-341D-4382-9D19-0A24E93A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6029-6BA8-4B8E-BE0B-675D650D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E6D5AB-773D-4B97-87C3-E8424C4C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0D8095-26F6-4C35-8D90-59AF0625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52D173-A149-4FFF-BC1F-D3439993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497A68-546C-4600-B668-B3E82416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569012-6D97-439F-95F8-440B5AEE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7707C4-A529-42C2-B517-E954AA34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003288-3722-4511-B62C-3A8F7872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C33C37-5E19-4850-A7AF-B96997BB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1F3789-4A3C-4CAD-ABF2-5D779BB1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32C175-9540-4A52-A211-46208E3A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8A75-06E6-42CD-8B1D-B8C56DB3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FA86C2-D169-44E8-9435-FC6E57A8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41A60F-DFBC-4ABD-8CA7-27BC66D1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668F02-9C6A-46F2-9668-FFA0A2AA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31DFA9-A30C-4FFF-9A99-C98EC2FB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8CE3B2-900E-4388-A392-0E69D579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C0B7A6-C00A-4952-982E-42E2DA16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B49C60-D497-4E3C-9E70-4B12F769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45ECBD-D557-4F63-A82A-BD0DEC42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81E794-A880-457A-BB3B-47CDDBEC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BD5828-3D99-4A7B-898C-EC2C3FCC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9A27-D9DC-49A3-8811-6AF82107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62C43F-B4BA-43EC-BF62-E750E9EF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729764-A060-4756-B943-7BFF42C3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25E40C-6E42-41EB-8DF2-4333F3C4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78F6C7-ADFB-4B0E-855A-F56502D2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687440-22CE-4CBA-9127-F30C58C8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1F4993-757C-4248-8E2D-60F001DD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500313-66B7-40A2-B16D-DD691D04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CC10D3-76FD-44FD-B2DC-BE40BF08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28A833-7C72-4BF6-AF58-2D03E5F5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F3C747-1841-45B2-A80F-025765DE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232D-AEBE-4A90-8C74-3952BACE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0B4BAC-A700-414B-8832-078AB681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444ACD-7065-428C-B638-E0150BCD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CC5135-3B64-48EF-878E-D477EA04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79CA15-CC43-460F-A203-6944FA41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6666D1-8F20-415F-A15C-51CD38CD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998AC3-6645-42C8-8F80-8FDF5B86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034BBC-3CAD-495B-B44F-0DE58B2B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B34B1C-F1E0-4995-93FA-E9A0CB3C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3C9585-4A1E-47F3-A8C7-954F548E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BA97AB-FBEB-4A62-872E-D5E00CC9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D7BD-985C-43CF-9E72-DDE2BE3C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C7448E-122A-4F03-8365-F268F6FB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3E1F3B-E93D-4F74-A79B-22A5E71B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C2159F-6427-4215-9C8E-C77443EA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5326E7-989A-4701-B837-8E50DD4F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109E56-648C-4D2E-8F88-B4EBC667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E41488-2EF2-4382-AFF4-D4078F98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054F34-6256-46F8-9B28-B4603F50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81C129-A9A6-47FE-A20E-BDEABE14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E45FB2-8896-44EE-9C0C-48850BB8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2898DA-3FD4-430D-9095-7F11808C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B5D15-EC61-4573-B929-41256C5A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B54430-118A-4958-88B0-4A832716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8993EE-3E9C-4CC2-97B4-30C2F711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8363A9-B4A2-41FB-94BA-C0BDF750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27BC0-5158-469B-918B-5987326A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932A8-44E6-4440-A784-B9C1FD1B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0853A-DB2A-4A79-B0C5-5A1502F4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7EEFD-04B1-48FE-A5A1-2145B25A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DD80-9A6C-470F-A35E-A44E8587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04885-9352-4514-9CB0-CFCF3A8E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E1CB3-3F36-41DA-AC2D-162C8F93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45ED-1E80-4CE7-9912-9BC96EE6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5CACA-4AA9-4B5A-9BA7-03D4C22D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0A53A-F475-4A30-90F6-CD4A5FCB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9475C-E7E8-4BA5-A05A-0D63D7DB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166F7-19EB-48F4-BC63-9B908FBA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C5AFB-0FE8-4A75-92A8-93C6BEB1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7DDF7-BD8E-4BAC-B8D6-72E809CB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5AD36-85C6-4C88-95DD-6D301E57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440-24E9-4DF3-BF22-1226E0ED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9EEE4-BAD0-437C-9B5B-11CB4723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4C5D8-4EE0-45E5-AE22-A32A701E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7AD55-4F85-4EC9-8993-4B3908C7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4A856-B2EE-419F-A1D3-B281BA9C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93358-67EC-415D-BAE5-9990A1B6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999BC-8609-4A49-961A-78973181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3B4A1-524D-4FBA-A079-E9834CEB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C3AFB-3B87-4CDA-B17B-D4ACD0E3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BD3F2-BC78-4049-88ED-AD960D9E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62770-D242-4972-BAC3-278E7E8A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4BFD-04A1-4314-83AF-727E5D10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1BA5E-02EF-4CC4-905B-B27B64EB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44C7B-B487-4C02-A7DF-F97B309F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50499-8EC8-41EF-BFEE-F2075178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C39AC-1CB3-4063-8AC7-6CA2BB5F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FBC5B-8D56-48A5-9B70-C6710939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2C360-C3DC-4FBF-A234-6B288360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D9ACB-A170-4F20-87B5-DDFDB2D3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ACDE4-405D-46A8-A0B3-16076C08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FC622-894B-4DDC-96B7-71CD385D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E52CB-BAFF-4879-B053-6D6E0FAB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A73-498F-4C28-85D4-77416780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E6792-CCBB-4584-8874-D3ADDBBD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E9218-C964-437B-8055-85DD046C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F7099-BD9A-420E-8106-7B319A1B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EEC2E-9684-4207-8B47-2C172188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35400-687A-4DE3-9A18-4EDE8558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3BA65-E93E-4715-B62D-0297B29D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F0C13-E453-49DD-8E5B-BA66DDCF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6ACD9-1C6D-4B07-9F4C-AD73CF47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3B69F-4976-48BC-9563-F053832D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3A71F-8539-481D-8B2A-128B4ABD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7E0B-2412-49F9-B934-E411B646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74C22-A0A8-4607-951E-B1AFBA63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8D81F-4C10-4A54-B704-A071DE42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F9B06-4012-4D5A-91DA-771E7735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CCBD7-7984-4FEA-9FBE-7143B222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03393-8B49-41E4-937B-91800F89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448D4-227D-41C4-8710-13FE0D04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491E4-4FFC-4B37-BCC1-68A30A96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BB368-2CDE-4030-8CC5-A8DFE453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5E0F5-F1D7-4F3E-9C14-980180DC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99DD2-EE2D-4306-8833-A0A303D3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5539-9F17-4892-B60F-E349284D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7422D-C6E7-41F0-A045-864EEC08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D025B-679F-446B-ADA1-3B5DEC5A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CE24F-55CC-41C3-90F7-B094E353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10146-6104-4DEC-B2B4-22FEC3C7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DE90E-496C-4405-86AB-3074C0A9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DE947-9400-4328-BE90-592F6383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61F1D-8523-46BB-9BB9-E6372BD5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99B26-45D4-44C9-B6F1-846B3602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FE994-D1DD-40F0-9776-EA91318B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444A8-C410-4AE0-94E3-3BD80713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5B54-6A06-409C-812B-B7EC0FB3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2D0F1-08A2-4C73-9334-14787E30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6C439-E349-4D8E-9BE4-35A7CC58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0B23B-1456-43A9-9C8A-60F63A32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F5D37-9EEA-4D52-96C5-8847AB90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8FDF4-65A6-4C92-8984-AAA86A68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7FC37-B0E3-41CA-9A53-CB50F2BE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C9ED2-4786-4A9B-B57D-C32FEDFD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01859-64FF-4DFE-AFFF-B6C20773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061F2-F6AC-4A5E-9C5E-81AACC0D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CE2AC-179D-457C-8D93-D8C72EE0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18EA-C98D-4162-9473-4A08C769BE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E932-A872-4F34-8261-93DB075805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B213-B22F-4132-9691-B52AAAE5AB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1E2A-33BA-4101-8FAA-9A6A4D8A59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6540-AAFB-4493-AA05-C80F2466C6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C415-F2DB-4331-8605-51FB6ACEA7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AEF0-00BD-440B-99F1-C191D5EB95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9183-E043-4815-A187-A8A60C93B0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CDA9-3FBC-4EB8-ABBB-03F5E42C7C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22C1-2DE9-403E-A38C-23DD56DEAE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C9AC-98ED-4A60-B7D0-19857818B6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C6A2-FB9A-4C1F-8547-6860550AE2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011F-08FC-481D-AF0C-BDA616253C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A673-8A91-4DDC-B319-886C3573BD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CC01-517B-4B8B-8B0A-D57CFCABE4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FC4B-5C70-40CD-BCDE-511E87ECE2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D850-BFEE-4AFE-9820-0DBB736259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14D3-C180-4DAC-819F-87C9379D55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6870-BDD5-44F1-934C-BE73047529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A187-0442-49CA-9A34-A27CD08109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9C98-A0B4-4138-9F7A-CEFDF896C1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B601-63B9-4766-ADFF-369DED0433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F457-D7B2-4BD0-9C4C-08D0DBDD8B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878A-B919-4F15-9D6D-6F7014E1B3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749C-8E4A-4546-A25D-87098DFB88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2E85-43D8-4F91-B607-D24646D08F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6253-8D61-40CC-8E6E-4A09771E24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3DEE-7E28-470C-9159-2CACDCA3BA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E29D-AA63-40F3-A3E7-51F89E60F2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7765-3271-48F9-BB7F-572497370F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7324-6B47-47C6-9488-5089629F1A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363F-181A-4217-932B-83C9CEF8C4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8EE6-41EA-47EC-A653-EF6DB6B274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84BD-36BF-46F7-A547-FEE9FD9FF1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72DC-F525-4A8A-B7EC-BD9A9C3B37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503F-858C-49A8-BD7E-91BEB720E6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213A-D1E6-4A4F-A439-96874ED14A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C18E-E8AD-4875-BEEC-6F1770BEC7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DBAC-3211-4C5B-BDC1-3FB3EFEC08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A465-2AE9-4643-B93C-B91EBDAB09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66880" y="3243240"/>
            <a:ext cx="381024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43080" y="668160"/>
            <a:ext cx="8458200" cy="6000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203640" y="23493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732720" y="23493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276720" y="4221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875120" y="42782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516720" y="4221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956720" y="4221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29" name="图片 60436" descr=""/>
          <p:cNvPicPr/>
          <p:nvPr/>
        </p:nvPicPr>
        <p:blipFill>
          <a:blip r:embed="rId8"/>
          <a:stretch/>
        </p:blipFill>
        <p:spPr>
          <a:xfrm>
            <a:off x="755640" y="5141880"/>
            <a:ext cx="1886040" cy="1552680"/>
          </a:xfrm>
          <a:prstGeom prst="rect">
            <a:avLst/>
          </a:prstGeom>
          <a:ln w="0">
            <a:noFill/>
          </a:ln>
        </p:spPr>
      </p:pic>
      <p:pic>
        <p:nvPicPr>
          <p:cNvPr id="930" name="图片 60437" descr=""/>
          <p:cNvPicPr/>
          <p:nvPr/>
        </p:nvPicPr>
        <p:blipFill>
          <a:blip r:embed="rId9"/>
          <a:stretch/>
        </p:blipFill>
        <p:spPr>
          <a:xfrm>
            <a:off x="2916360" y="5170320"/>
            <a:ext cx="1619280" cy="1524240"/>
          </a:xfrm>
          <a:prstGeom prst="rect">
            <a:avLst/>
          </a:prstGeom>
          <a:ln w="0">
            <a:noFill/>
          </a:ln>
        </p:spPr>
      </p:pic>
      <p:pic>
        <p:nvPicPr>
          <p:cNvPr id="931" name="图片 60438" descr=""/>
          <p:cNvPicPr/>
          <p:nvPr/>
        </p:nvPicPr>
        <p:blipFill>
          <a:blip r:embed="rId10"/>
          <a:stretch/>
        </p:blipFill>
        <p:spPr>
          <a:xfrm>
            <a:off x="4975200" y="5186520"/>
            <a:ext cx="1800360" cy="148572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60439" descr=""/>
          <p:cNvPicPr/>
          <p:nvPr/>
        </p:nvPicPr>
        <p:blipFill>
          <a:blip r:embed="rId11"/>
          <a:stretch/>
        </p:blipFill>
        <p:spPr>
          <a:xfrm>
            <a:off x="7164360" y="5156280"/>
            <a:ext cx="13622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9410" descr=""/>
          <p:cNvPicPr/>
          <p:nvPr/>
        </p:nvPicPr>
        <p:blipFill>
          <a:blip r:embed="rId1"/>
          <a:stretch/>
        </p:blipFill>
        <p:spPr>
          <a:xfrm>
            <a:off x="138240" y="1047600"/>
            <a:ext cx="8867520" cy="53341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8244000" y="2276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8317080" y="2781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8317080" y="3213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8317080" y="3716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7093080" y="6035760"/>
            <a:ext cx="1800000" cy="31896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59416" descr=""/>
          <p:cNvPicPr/>
          <p:nvPr/>
        </p:nvPicPr>
        <p:blipFill>
          <a:blip r:embed="rId7"/>
          <a:stretch/>
        </p:blipFill>
        <p:spPr>
          <a:xfrm>
            <a:off x="871560" y="5113440"/>
            <a:ext cx="2590920" cy="122868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59417" descr=""/>
          <p:cNvPicPr/>
          <p:nvPr/>
        </p:nvPicPr>
        <p:blipFill>
          <a:blip r:embed="rId8"/>
          <a:stretch/>
        </p:blipFill>
        <p:spPr>
          <a:xfrm>
            <a:off x="4470480" y="5157720"/>
            <a:ext cx="25430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02:1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